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13003213" cy="9752013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215640" y="253800"/>
            <a:ext cx="12560040" cy="88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0816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4660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26972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480816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834660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215640" y="253800"/>
            <a:ext cx="12560040" cy="88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0816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834660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126972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480816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834660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215640" y="253800"/>
            <a:ext cx="12560040" cy="88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0816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34660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126972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80816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834660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215640" y="253800"/>
            <a:ext cx="12560040" cy="88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0816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4660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26972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480816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834660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215640" y="253800"/>
            <a:ext cx="12560040" cy="88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0816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34660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126972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480816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834660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15640" y="253800"/>
            <a:ext cx="12560040" cy="88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215640" y="253800"/>
            <a:ext cx="12560040" cy="88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215640" y="253800"/>
            <a:ext cx="12560040" cy="88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0816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4660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26972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480816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834660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215640" y="253800"/>
            <a:ext cx="12560040" cy="88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15640" y="253800"/>
            <a:ext cx="12560040" cy="88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0816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34660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26972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480816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834660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15640" y="253800"/>
            <a:ext cx="12560040" cy="88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816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4660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126972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480816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834660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215640" y="253800"/>
            <a:ext cx="12560040" cy="88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0816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4660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26972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80816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34660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215640" y="253800"/>
            <a:ext cx="12560040" cy="88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269720" y="5762160"/>
            <a:ext cx="1046484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31920" y="228600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697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631920" y="5762160"/>
            <a:ext cx="5106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0816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346600" y="228600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26972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80816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346600" y="5762160"/>
            <a:ext cx="3369600" cy="317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solidFill>
            <a:srgbClr val="75c223"/>
          </a:solidFill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5640" y="4914720"/>
            <a:ext cx="12560040" cy="888840"/>
          </a:xfrm>
          <a:prstGeom prst="rect">
            <a:avLst/>
          </a:prstGeom>
          <a:solidFill>
            <a:srgbClr val="75c223"/>
          </a:solidFill>
          <a:ln w="0">
            <a:noFill/>
          </a:ln>
        </p:spPr>
        <p:txBody>
          <a:bodyPr lIns="50760" rIns="50760" tIns="50760" bIns="50760" anchor="t">
            <a:normAutofit fontScale="17000"/>
          </a:bodyPr>
          <a:p>
            <a:pPr marL="58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  <a:p>
            <a:pPr lvl="1" marL="58320" indent="-58320" algn="ctr">
              <a:buClr>
                <a:srgbClr val="ffffff"/>
              </a:buClr>
              <a:buFont typeface="Futur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  <a:p>
            <a:pPr lvl="2" marL="58320" indent="-58320" algn="ctr">
              <a:buClr>
                <a:srgbClr val="ffffff"/>
              </a:buClr>
              <a:buFont typeface="Futur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  <a:p>
            <a:pPr lvl="3" marL="58320" indent="-58320" algn="ctr">
              <a:buClr>
                <a:srgbClr val="ffffff"/>
              </a:buClr>
              <a:buFont typeface="Futur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  <a:p>
            <a:pPr lvl="4" marL="58320" indent="-58320" algn="ctr">
              <a:buClr>
                <a:srgbClr val="ffffff"/>
              </a:buClr>
              <a:buFont typeface="Futur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  <a:p>
            <a:pPr lvl="5" marL="58320" indent="-58320" algn="ctr">
              <a:buClr>
                <a:srgbClr val="727272"/>
              </a:buClr>
              <a:buFont typeface="Futur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  <a:p>
            <a:pPr lvl="6" marL="58320" indent="-58320" algn="ctr">
              <a:buClr>
                <a:srgbClr val="727272"/>
              </a:buClr>
              <a:buFont typeface="Futur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1269720" y="2286000"/>
            <a:ext cx="50418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4000"/>
          </a:bodyPr>
          <a:p>
            <a:pPr marL="586080" indent="-3884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1" marL="914760" indent="-3884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2" marL="1243800" indent="-38880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3" marL="1572840" indent="-38880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4" marL="1901520" indent="-3884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5" marL="1901520" indent="-38844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6" marL="1901520" indent="-38844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635040" y="4838760"/>
            <a:ext cx="5867280" cy="2921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2000"/>
          </a:bodyPr>
          <a:p>
            <a:pPr marL="24696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1" marL="246960" indent="-246960" algn="ctr">
              <a:buClr>
                <a:srgbClr val="727272"/>
              </a:buClr>
              <a:buFont typeface="Palatin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2" marL="246960" indent="-246960" algn="ctr">
              <a:buClr>
                <a:srgbClr val="72727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3" marL="246960" indent="-246960" algn="ctr">
              <a:buClr>
                <a:srgbClr val="727272"/>
              </a:buClr>
              <a:buFont typeface="Palatin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4" marL="246960" indent="-246960" algn="ctr">
              <a:buClr>
                <a:srgbClr val="727272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5" marL="246960" indent="-246960" algn="ctr">
              <a:buClr>
                <a:srgbClr val="727272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6" marL="246960" indent="-246960" algn="ctr">
              <a:buClr>
                <a:srgbClr val="727272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635040" y="1980720"/>
            <a:ext cx="5867280" cy="273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75c223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75c223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0760" indent="-525600">
              <a:spcBef>
                <a:spcPts val="4201"/>
              </a:spcBef>
              <a:buClr>
                <a:srgbClr val="ed7c2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1" marL="1179720" indent="-525600">
              <a:spcBef>
                <a:spcPts val="4201"/>
              </a:spcBef>
              <a:buClr>
                <a:srgbClr val="ed7c2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2" marL="1589040" indent="-525600">
              <a:spcBef>
                <a:spcPts val="4201"/>
              </a:spcBef>
              <a:buClr>
                <a:srgbClr val="ed7c2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3" marL="1998000" indent="-525600">
              <a:spcBef>
                <a:spcPts val="4201"/>
              </a:spcBef>
              <a:buClr>
                <a:srgbClr val="ed7c2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4" marL="2406600" indent="-525600">
              <a:spcBef>
                <a:spcPts val="4201"/>
              </a:spcBef>
              <a:buClr>
                <a:srgbClr val="ed7c2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5" marL="2406600" indent="-525600">
              <a:spcBef>
                <a:spcPts val="42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6" marL="2406600" indent="-525600">
              <a:spcBef>
                <a:spcPts val="42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6" name="Rectangle 2"/>
          <p:cNvSpPr/>
          <p:nvPr/>
        </p:nvSpPr>
        <p:spPr>
          <a:xfrm>
            <a:off x="11861640" y="216000"/>
            <a:ext cx="1041480" cy="9321840"/>
          </a:xfrm>
          <a:prstGeom prst="rect">
            <a:avLst/>
          </a:prstGeom>
          <a:solidFill>
            <a:srgbClr val="ed7c26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7272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7772040" y="2286000"/>
            <a:ext cx="396252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522720" indent="-34632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1" marL="816120" indent="-34632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2" marL="1109520" indent="-34668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3" marL="1402920" indent="-34668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4" marL="1695960" indent="-34632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5" marL="1695960" indent="-34632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6" marL="1695960" indent="-34632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1" marL="1282680" indent="-57132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2" marL="1727280" indent="-57168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3" marL="2171880" indent="-57168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4" marL="2616120" indent="-57132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5" marL="2616120" indent="-571320">
              <a:spcBef>
                <a:spcPts val="24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6" marL="2616120" indent="-571320">
              <a:spcBef>
                <a:spcPts val="24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0760" indent="-525600">
              <a:spcBef>
                <a:spcPts val="42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1" marL="1179720" indent="-525600">
              <a:spcBef>
                <a:spcPts val="42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2" marL="1589040" indent="-525600">
              <a:spcBef>
                <a:spcPts val="42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3" marL="1998000" indent="-525600">
              <a:spcBef>
                <a:spcPts val="42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4" marL="2406600" indent="-525600">
              <a:spcBef>
                <a:spcPts val="42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5" marL="2406600" indent="-525600">
              <a:spcBef>
                <a:spcPts val="42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6" marL="2406600" indent="-525600">
              <a:spcBef>
                <a:spcPts val="42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3"/>
          <p:cNvGrpSpPr/>
          <p:nvPr/>
        </p:nvGrpSpPr>
        <p:grpSpPr>
          <a:xfrm>
            <a:off x="10261440" y="241200"/>
            <a:ext cx="2514600" cy="9283680"/>
            <a:chOff x="10261440" y="241200"/>
            <a:chExt cx="2514600" cy="9283680"/>
          </a:xfrm>
        </p:grpSpPr>
        <p:sp>
          <p:nvSpPr>
            <p:cNvPr id="187" name="Rectangle 1"/>
            <p:cNvSpPr/>
            <p:nvPr/>
          </p:nvSpPr>
          <p:spPr>
            <a:xfrm>
              <a:off x="10261440" y="2730240"/>
              <a:ext cx="2514600" cy="6794640"/>
            </a:xfrm>
            <a:prstGeom prst="rect">
              <a:avLst/>
            </a:prstGeom>
            <a:solidFill>
              <a:srgbClr val="edb60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ffffff"/>
                  </a:solidFill>
                  <a:latin typeface="Futura"/>
                  <a:ea typeface="Futura"/>
                </a:rPr>
                <a:t> </a:t>
              </a:r>
              <a:endParaRPr b="0" lang="en-US" sz="4300" spc="-1" strike="noStrike">
                <a:solidFill>
                  <a:srgbClr val="727272"/>
                </a:solidFill>
                <a:latin typeface="Futura"/>
              </a:endParaRPr>
            </a:p>
          </p:txBody>
        </p:sp>
        <p:sp>
          <p:nvSpPr>
            <p:cNvPr id="188" name="Rectangle 2"/>
            <p:cNvSpPr/>
            <p:nvPr/>
          </p:nvSpPr>
          <p:spPr>
            <a:xfrm>
              <a:off x="10261440" y="241200"/>
              <a:ext cx="2514600" cy="2502000"/>
            </a:xfrm>
            <a:prstGeom prst="rect">
              <a:avLst/>
            </a:prstGeom>
            <a:solidFill>
              <a:srgbClr val="48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727272"/>
                </a:solidFill>
                <a:latin typeface="Futura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solidFill>
            <a:srgbClr val="75c22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solidFill>
            <a:srgbClr val="db3d8a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1269720" y="2286000"/>
            <a:ext cx="50418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4000"/>
          </a:bodyPr>
          <a:p>
            <a:pPr marL="586080" indent="-3884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1" marL="914760" indent="-3884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2" marL="1243800" indent="-38880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3" marL="1572840" indent="-38880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4" marL="1901520" indent="-3884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5" marL="1901520" indent="-38844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6" marL="1901520" indent="-38844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92000" indent="-5252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1" marL="1236600" indent="-5252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2" marL="1681200" indent="-52560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3" marL="2125800" indent="-52560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4" marL="2570040" indent="-5252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5" marL="2570040" indent="-52524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6" marL="2570040" indent="-52524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7" descr="http://www.thompson.k12.co.us/Schools/Images/WCMSWEB.jpg"/>
          <p:cNvPicPr/>
          <p:nvPr/>
        </p:nvPicPr>
        <p:blipFill>
          <a:blip r:embed="rId1"/>
          <a:stretch/>
        </p:blipFill>
        <p:spPr>
          <a:xfrm>
            <a:off x="2384280" y="304920"/>
            <a:ext cx="8382240" cy="917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39600" y="685800"/>
            <a:ext cx="11055240" cy="209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091120"/>
                </a:solidFill>
                <a:latin typeface="Futura"/>
              </a:rPr>
              <a:t>Collaboration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950840" y="3276720"/>
            <a:ext cx="9102600" cy="474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Celebrations and Next Steps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High Growth in Math on 2009-10 CSAP tests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chool Improvement Plan to continue focus on Math, but add goals for Writing and Reading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  <p:transition spd="slow" advTm="11000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39600" y="685800"/>
            <a:ext cx="11055240" cy="209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091120"/>
                </a:solidFill>
                <a:latin typeface="Futura"/>
              </a:rPr>
              <a:t>Collaboration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1950840" y="3276720"/>
            <a:ext cx="9102600" cy="474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27272"/>
                </a:solidFill>
                <a:latin typeface="Palatino"/>
              </a:rPr>
              <a:t>Instructional Coach</a:t>
            </a:r>
            <a:endParaRPr b="0" lang="en-US" sz="4000" spc="-1" strike="noStrike">
              <a:solidFill>
                <a:srgbClr val="727272"/>
              </a:solidFill>
              <a:latin typeface="Palatino"/>
            </a:endParaRPr>
          </a:p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27272"/>
                </a:solidFill>
                <a:latin typeface="Palatino"/>
              </a:rPr>
              <a:t>Facilitate Data Dialogue through Math and Literacy content team meetings (exploring Acuity data more in depth)</a:t>
            </a:r>
            <a:endParaRPr b="0" lang="en-US" sz="4000" spc="-1" strike="noStrike">
              <a:solidFill>
                <a:srgbClr val="727272"/>
              </a:solidFill>
              <a:latin typeface="Palatino"/>
            </a:endParaRPr>
          </a:p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27272"/>
                </a:solidFill>
                <a:latin typeface="Palatino"/>
              </a:rPr>
              <a:t>Facilitate book studies</a:t>
            </a:r>
            <a:endParaRPr b="0" lang="en-US" sz="4000" spc="-1" strike="noStrike">
              <a:solidFill>
                <a:srgbClr val="727272"/>
              </a:solidFill>
              <a:latin typeface="Palatino"/>
            </a:endParaRPr>
          </a:p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27272"/>
                </a:solidFill>
                <a:latin typeface="Palatino"/>
              </a:rPr>
              <a:t>	</a:t>
            </a:r>
            <a:r>
              <a:rPr b="0" lang="en-US" sz="4000" spc="-1" strike="noStrike" u="sng">
                <a:solidFill>
                  <a:srgbClr val="727272"/>
                </a:solidFill>
                <a:uFillTx/>
                <a:latin typeface="Palatino"/>
              </a:rPr>
              <a:t>Fair Isn’t Always Equal</a:t>
            </a:r>
            <a:endParaRPr b="0" lang="en-US" sz="4000" spc="-1" strike="noStrike">
              <a:solidFill>
                <a:srgbClr val="727272"/>
              </a:solidFill>
              <a:latin typeface="Palatino"/>
            </a:endParaRPr>
          </a:p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27272"/>
                </a:solidFill>
                <a:latin typeface="Palatino"/>
              </a:rPr>
              <a:t>	</a:t>
            </a:r>
            <a:r>
              <a:rPr b="0" lang="en-US" sz="4000" spc="-1" strike="noStrike" u="sng">
                <a:solidFill>
                  <a:srgbClr val="727272"/>
                </a:solidFill>
                <a:uFillTx/>
                <a:latin typeface="Palatino"/>
              </a:rPr>
              <a:t>Understanding by Design</a:t>
            </a:r>
            <a:endParaRPr b="0" lang="en-US" sz="40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  <p:transition spd="slow" advTm="11000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39600" y="685800"/>
            <a:ext cx="11055240" cy="209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091120"/>
                </a:solidFill>
                <a:latin typeface="Futura"/>
              </a:rPr>
              <a:t>Collaboration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1930320" y="3276720"/>
            <a:ext cx="9102960" cy="474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Impact on Students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tudent as Learner focus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Data walls in a few classrooms sparked a “competition” between classes on next Acuity assessment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Continuity of school-wide PBIS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  <p:transition spd="slow" advTm="11000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39600" y="685800"/>
            <a:ext cx="11055240" cy="209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091120"/>
                </a:solidFill>
                <a:latin typeface="Futura"/>
              </a:rPr>
              <a:t>Transparency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950840" y="3276720"/>
            <a:ext cx="9102600" cy="474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Transparency is operating in such a way that it is easy for others to see what actions are performed.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  <p:transition spd="slow" advTm="11000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39600" y="685800"/>
            <a:ext cx="11055240" cy="209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091120"/>
                </a:solidFill>
                <a:latin typeface="Futura"/>
              </a:rPr>
              <a:t>Transparency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1950840" y="3276720"/>
            <a:ext cx="9102600" cy="474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Celebrations and Next Steps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Refinement of schedule through modified program planning collaboration to continue unified bell schedule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haring of Colorado Growth Model Data and revisiting SIP goals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Embraced LDC/MDC initiative with 60% staff trained in first cohorts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  <p:transition spd="slow" advTm="11000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39600" y="685800"/>
            <a:ext cx="11055240" cy="209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091120"/>
                </a:solidFill>
                <a:latin typeface="Futura"/>
              </a:rPr>
              <a:t>Transparency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1950840" y="3276720"/>
            <a:ext cx="9102600" cy="474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Instructional Coach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Posting of data in data room to facilitate school data dialogues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Literacy and Math weekly team dialogues involving data, curriculum, and instructional practices with focus text </a:t>
            </a:r>
            <a:r>
              <a:rPr b="0" lang="en-US" sz="2800" spc="-1" strike="noStrike" u="sng">
                <a:solidFill>
                  <a:srgbClr val="727272"/>
                </a:solidFill>
                <a:uFillTx/>
                <a:latin typeface="Palatino"/>
              </a:rPr>
              <a:t>Teach Like a Champion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School wide Socratic Seminar around text </a:t>
            </a:r>
            <a:r>
              <a:rPr b="0" lang="en-US" sz="2800" spc="-1" strike="noStrike" u="sng">
                <a:solidFill>
                  <a:srgbClr val="727272"/>
                </a:solidFill>
                <a:uFillTx/>
                <a:latin typeface="Palatino"/>
              </a:rPr>
              <a:t>Choice Words</a:t>
            </a: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 and guided independent studies for </a:t>
            </a:r>
            <a:r>
              <a:rPr b="0" lang="en-US" sz="2800" spc="-1" strike="noStrike" u="sng">
                <a:solidFill>
                  <a:srgbClr val="727272"/>
                </a:solidFill>
                <a:uFillTx/>
                <a:latin typeface="Palatino"/>
              </a:rPr>
              <a:t>Mind Set</a:t>
            </a: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 and </a:t>
            </a:r>
            <a:r>
              <a:rPr b="0" lang="en-US" sz="2800" spc="-1" strike="noStrike" u="sng">
                <a:solidFill>
                  <a:srgbClr val="727272"/>
                </a:solidFill>
                <a:uFillTx/>
                <a:latin typeface="Palatino"/>
              </a:rPr>
              <a:t>Lost in Schoo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Revisiting SIP goals in November 2011 through grade-level team meetings to establish a school-wide Math goa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On-site follow up with LDC/MDC modules, lessons and FALs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  <p:transition spd="slow" advTm="11000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39600" y="685800"/>
            <a:ext cx="11055240" cy="209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091120"/>
                </a:solidFill>
                <a:latin typeface="Futura"/>
              </a:rPr>
              <a:t>Transparency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950840" y="3276720"/>
            <a:ext cx="9102600" cy="474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Impact on Students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Acuity data posted in school common area, and all Literacy and Math classrooms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Proficiency walls in some classrooms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Continue Student as Learner vision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Continuity of school-wide PBIS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  <p:transition spd="slow" advTm="11000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39600" y="685800"/>
            <a:ext cx="11055240" cy="209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091120"/>
                </a:solidFill>
                <a:latin typeface="Futura"/>
              </a:rPr>
              <a:t>Next steps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950840" y="3276720"/>
            <a:ext cx="9102600" cy="474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2012-13 School Year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2</a:t>
            </a:r>
            <a:r>
              <a:rPr b="0" lang="en-US" sz="4200" spc="-1" strike="noStrike" baseline="30000">
                <a:solidFill>
                  <a:srgbClr val="727272"/>
                </a:solidFill>
                <a:latin typeface="Palatino"/>
              </a:rPr>
              <a:t>nd</a:t>
            </a: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 Semester 2011-12, revisited Program Planning collaborative process and created a new schedule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Build capacity and share leadership roles among staff members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  <p:transition spd="slow" advTm="11000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21841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091120"/>
                </a:solidFill>
                <a:latin typeface="Futura"/>
              </a:rPr>
              <a:t>Changes over time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44160" y="243792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Three years ago, a new administration redefined our purpose and refreshed our perspective within WCMS…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3175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	</a:t>
            </a: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Trust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3175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	</a:t>
            </a: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Collaboration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3175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	</a:t>
            </a: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Transparency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  <p:transition spd="med" advTm="1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39600" y="685800"/>
            <a:ext cx="11055240" cy="209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091120"/>
                </a:solidFill>
                <a:latin typeface="Futura"/>
              </a:rPr>
              <a:t>Trus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1950840" y="3276720"/>
            <a:ext cx="9102600" cy="474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Trust means making an exchange with someone when you do not have full knowledge about them, their intent and the things they are offering to you.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  <p:transition spd="med" advTm="11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39600" y="685800"/>
            <a:ext cx="11055240" cy="209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091120"/>
                </a:solidFill>
                <a:latin typeface="Futura"/>
              </a:rPr>
              <a:t>Trus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1950840" y="3276720"/>
            <a:ext cx="9102600" cy="474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27272"/>
                </a:solidFill>
                <a:latin typeface="Palatino"/>
              </a:rPr>
              <a:t>“</a:t>
            </a:r>
            <a:r>
              <a:rPr b="0" lang="en-US" sz="8000" spc="-1" strike="noStrike">
                <a:solidFill>
                  <a:srgbClr val="727272"/>
                </a:solidFill>
                <a:latin typeface="Palatino"/>
              </a:rPr>
              <a:t>I trust you.”</a:t>
            </a:r>
            <a:endParaRPr b="0" lang="en-US" sz="8000" spc="-1" strike="noStrike">
              <a:solidFill>
                <a:srgbClr val="727272"/>
              </a:solidFill>
              <a:latin typeface="Palatino"/>
            </a:endParaRPr>
          </a:p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From day one for the 2009-2010 school year, WCMS staff heard this message from our administration.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  <p:transition spd="med" advTm="11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39600" y="685800"/>
            <a:ext cx="11055240" cy="209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091120"/>
                </a:solidFill>
                <a:latin typeface="Futura"/>
              </a:rPr>
              <a:t>Trus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1950840" y="3276720"/>
            <a:ext cx="9102600" cy="474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Celebration and Next Steps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WCMS made AYP for the 2008-09 year in Reading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Whole Staff held Root Cause dialogue to determine SIP goals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  <p:transition spd="med" advTm="11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39600" y="685800"/>
            <a:ext cx="11055240" cy="209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091120"/>
                </a:solidFill>
                <a:latin typeface="Futura"/>
              </a:rPr>
              <a:t>Trus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1950840" y="3276720"/>
            <a:ext cx="9102600" cy="474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Instructional Coach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acilitation of whole staff data dialogue during TENS week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Leadership team development of school goals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Weekly team meetings to revisit steps towards meeting SIP goals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acilitation of six in-house inquiry labs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  <p:transition spd="med" advTm="11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39600" y="685800"/>
            <a:ext cx="11055240" cy="209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091120"/>
                </a:solidFill>
                <a:latin typeface="Futura"/>
              </a:rPr>
              <a:t>Trus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1950840" y="3276720"/>
            <a:ext cx="9102600" cy="474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Impact on Students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Continuity of school-wide PBIS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haring data with students through conferencing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  <p:transition spd="med" advTm="11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39600" y="685800"/>
            <a:ext cx="11055240" cy="209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091120"/>
                </a:solidFill>
                <a:latin typeface="Futura"/>
              </a:rPr>
              <a:t>Collaboration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950840" y="3276720"/>
            <a:ext cx="9102600" cy="474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Collaboration means working together in a joint effort. Bruner (1991) defines collaboration as follows: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"Collaboration includes all of the following elements: jointly developing and agreeing to a set of common goals and directions; sharing responsibility for obtaining those goals; and working together to achieve those goals, using the expertise of each collaborator."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  <p:transition spd="slow" advTm="11000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39600" y="685800"/>
            <a:ext cx="11055240" cy="209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091120"/>
                </a:solidFill>
                <a:latin typeface="Futura"/>
              </a:rPr>
              <a:t>Collaboration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950840" y="3276720"/>
            <a:ext cx="9102600" cy="474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pring of 2010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First round of Program Planning – a collaborative approach to creating a school schedule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Input by all staff and adjustments made collaboratively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  <p:transition spd="slow" advTm="11000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ndt, Lauri L WCMS</dc:creator>
  <dc:description/>
  <dc:language>en-US</dc:language>
  <cp:lastModifiedBy>Lauri Brandt</cp:lastModifiedBy>
  <cp:lastPrinted>2012-05-07T20:32:43Z</cp:lastPrinted>
  <dcterms:modified xsi:type="dcterms:W3CDTF">2012-05-10T13:52:56Z</dcterms:modified>
  <cp:revision>20</cp:revision>
  <dc:subject/>
  <dc:title>School/Intro Slide</dc:title>
</cp:coreProperties>
</file>